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188-6D98-4E95-9713-5E83FABB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3CB-C1B3-4E6C-98B7-48468285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E3F-D225-4B25-80F8-514FAB1E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DA6-06AF-45C2-BCB0-9D46E4C4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D1D-36FA-4224-9474-5CD39E1E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907-8146-4E4B-B183-E5C94F40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E83E-42F9-4827-925A-83C63815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0FF-F681-41E0-AB17-0BFD666E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3C0-7D21-4ECD-BD53-F2F2A343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B39-A53A-414C-99F3-DC9625B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7BF-91B1-43F4-BF2B-75100E69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284-8441-42BE-9DC6-9D6C4BEE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BA6A-5D39-4C9A-8214-9F85F3C78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263520"/>
          <a:ext cx="7467840" cy="63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3520"/>
                    <a:ext cx="7467840" cy="63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2120" y="326880"/>
          <a:ext cx="7619760" cy="620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6880"/>
                    <a:ext cx="761976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09480" y="291960"/>
          <a:ext cx="7848720" cy="621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91960"/>
                    <a:ext cx="7848720" cy="621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4:17:35Z</dcterms:created>
  <dc:creator>Tom Bearden</dc:creator>
  <dc:description/>
  <dc:language>en-US</dc:language>
  <cp:lastModifiedBy>Tom Bearden</cp:lastModifiedBy>
  <dcterms:modified xsi:type="dcterms:W3CDTF">2007-06-07T04:22:36Z</dcterms:modified>
  <cp:revision>1</cp:revision>
  <dc:subject/>
  <dc:title>Slide 1</dc:title>
</cp:coreProperties>
</file>