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3.jpeg" ContentType="image/jpeg"/>
  <Override PartName="/ppt/media/image24.jpeg" ContentType="image/jpeg"/>
  <Override PartName="/ppt/media/image26.jpeg" ContentType="image/jpeg"/>
  <Override PartName="/ppt/media/image25.jpeg" ContentType="image/jpeg"/>
  <Override PartName="/ppt/media/image1.jpeg" ContentType="image/jpeg"/>
  <Override PartName="/ppt/media/image4.wmf" ContentType="image/x-wmf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2.jpeg" ContentType="image/jpe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3786-8D14-44FB-80B9-CCA0AFC3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B3E2-A116-4DE7-8460-AF993828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9A4D-F75D-4552-9EB2-1867D73F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44D9-6E63-420E-AE9C-0FD292DBC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3602-918D-4251-8091-59C97EDE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5A64-57CC-4226-BE86-20FDD1C6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E83F-4E23-4164-9C65-AB24B51B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FA29-917C-495D-9385-9C6EF9B7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2759-0F09-4654-B52B-A799145C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5F01-E627-4F19-8841-02D8BFBE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F4B7-226C-4DFF-8697-BB312B4A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77E2-8F14-4517-B3C0-5CD39B37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C431-3D47-4689-B2B2-9399474ED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oine Pri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ing Using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given mass, time can be made to reverse and to go forward in its local frame of refer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emwaves16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562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comes from the time domain into 3-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final-priore-1-28a" descr=""/>
          <p:cNvPicPr/>
          <p:nvPr/>
        </p:nvPicPr>
        <p:blipFill>
          <a:blip r:embed="rId1"/>
          <a:stretch/>
        </p:blipFill>
        <p:spPr>
          <a:xfrm>
            <a:off x="2133720" y="1736640"/>
            <a:ext cx="48765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from 3-space can be moved into the time domain moving forward or in reve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emwaves15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5867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processes are engineerable and are being used currently in at least 8 countries not including the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final-priore-1-26a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4778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Applications of the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final-priore-1-05a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487692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eal themselves, cells use a process of first moving backwards, then forward in a local time fr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final-priore-3a-06a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3733920" cy="2625840"/>
          </a:xfrm>
          <a:prstGeom prst="rect">
            <a:avLst/>
          </a:prstGeom>
          <a:ln w="0">
            <a:noFill/>
          </a:ln>
        </p:spPr>
      </p:pic>
      <p:pic>
        <p:nvPicPr>
          <p:cNvPr id="72" name="final-priore-2-13a" descr=""/>
          <p:cNvPicPr/>
          <p:nvPr/>
        </p:nvPicPr>
        <p:blipFill>
          <a:blip r:embed="rId2"/>
          <a:stretch/>
        </p:blipFill>
        <p:spPr>
          <a:xfrm>
            <a:off x="5181480" y="1752480"/>
            <a:ext cx="3353040" cy="2333880"/>
          </a:xfrm>
          <a:prstGeom prst="rect">
            <a:avLst/>
          </a:prstGeom>
          <a:ln w="0">
            <a:noFill/>
          </a:ln>
        </p:spPr>
      </p:pic>
      <p:pic>
        <p:nvPicPr>
          <p:cNvPr id="73" name="final-priore-1-31a" descr=""/>
          <p:cNvPicPr/>
          <p:nvPr/>
        </p:nvPicPr>
        <p:blipFill>
          <a:blip r:embed="rId3"/>
          <a:stretch/>
        </p:blipFill>
        <p:spPr>
          <a:xfrm>
            <a:off x="2971800" y="4114800"/>
            <a:ext cx="35053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reversal and forwarding is the mechanism by whi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-differentiation and re-differentiation of cells occ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emwaves33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3486240" cy="2693880"/>
          </a:xfrm>
          <a:prstGeom prst="rect">
            <a:avLst/>
          </a:prstGeom>
          <a:ln w="0">
            <a:noFill/>
          </a:ln>
        </p:spPr>
      </p:pic>
      <p:pic>
        <p:nvPicPr>
          <p:cNvPr id="76" name="emwaves35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3809880" cy="2944800"/>
          </a:xfrm>
          <a:prstGeom prst="rect">
            <a:avLst/>
          </a:prstGeom>
          <a:ln w="0">
            <a:noFill/>
          </a:ln>
        </p:spPr>
      </p:pic>
      <p:pic>
        <p:nvPicPr>
          <p:cNvPr id="77" name="final-priore-1-10a" descr=""/>
          <p:cNvPicPr/>
          <p:nvPr/>
        </p:nvPicPr>
        <p:blipFill>
          <a:blip r:embed="rId3"/>
          <a:stretch/>
        </p:blipFill>
        <p:spPr>
          <a:xfrm>
            <a:off x="2286000" y="4191120"/>
            <a:ext cx="320040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oine Prioré found a method to generate these internal healing effects using high magnetic fields and mixed frequencies of electromagnetic radiation. This method was scientifically verified in France during the 1960’s and 1970’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final-priore-3a-02a" descr=""/>
          <p:cNvPicPr/>
          <p:nvPr/>
        </p:nvPicPr>
        <p:blipFill>
          <a:blip r:embed="rId1"/>
          <a:stretch/>
        </p:blipFill>
        <p:spPr>
          <a:xfrm>
            <a:off x="4876920" y="2971800"/>
            <a:ext cx="3962160" cy="3013200"/>
          </a:xfrm>
          <a:prstGeom prst="rect">
            <a:avLst/>
          </a:prstGeom>
          <a:ln w="0">
            <a:noFill/>
          </a:ln>
        </p:spPr>
      </p:pic>
      <p:pic>
        <p:nvPicPr>
          <p:cNvPr id="80" name="final-priore-3b-01a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419076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generate these internal healing fields much more efficiently based on a newly discovered theoretical framework, which no one in Prioré’s day understood.  Part of the framework was not yet bo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emwaves67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9588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is information, we can develop compact computer-controlled machines which can reverse the effects of disease, including that induced by bio-terror atta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final-priore-3b-11a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809880" cy="2841840"/>
          </a:xfrm>
          <a:prstGeom prst="rect">
            <a:avLst/>
          </a:prstGeom>
          <a:ln w="0">
            <a:noFill/>
          </a:ln>
        </p:spPr>
      </p:pic>
      <p:pic>
        <p:nvPicPr>
          <p:cNvPr id="85" name="final-priore-4a-07a" descr=""/>
          <p:cNvPicPr/>
          <p:nvPr/>
        </p:nvPicPr>
        <p:blipFill>
          <a:blip r:embed="rId2"/>
          <a:stretch/>
        </p:blipFill>
        <p:spPr>
          <a:xfrm>
            <a:off x="4724280" y="2895480"/>
            <a:ext cx="358164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essential theoretical background to understand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i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é’s discovery follow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final-priore-1-04a" descr=""/>
          <p:cNvPicPr/>
          <p:nvPr/>
        </p:nvPicPr>
        <p:blipFill>
          <a:blip r:embed="rId1"/>
          <a:stretch/>
        </p:blipFill>
        <p:spPr>
          <a:xfrm>
            <a:off x="2590920" y="3124080"/>
            <a:ext cx="4114800" cy="32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countries have created weapons which cause disease or death using a variation of the same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final-priore-1-22a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9436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need to get going with the development of these systems to cope with the anticipated more devastating attacks yet to c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final-priore-4b-10a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518184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niverse functions in at least five dimensions x, y, z, time and interchanges with the active vacu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final-priore-2-12a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4541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must take into account the interactions between 3-space, spacetime, and the active vacu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final-priore-2-11a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moving in time has a different form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ss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thing observed in three dimensions is static at the moment of observation and not moving in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971800" y="1981080"/>
          <a:ext cx="3197160" cy="39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981080"/>
                    <a:ext cx="319716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bservation process itself destroys the time component and converts masstime to mass, for a single frozen snapshot.  We thus do not "see" time, but must infer it from a series of such "snapshots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emwaves18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600084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 mass does not continuously "exist in" (flow through) time, but continually recurs at successive points in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final-priore-1-30a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10552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has an internal structure that we don’t see using a 3-D view; using better math allows the additional structures to be se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figbsm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3657600" cy="3278160"/>
          </a:xfrm>
          <a:prstGeom prst="rect">
            <a:avLst/>
          </a:prstGeom>
          <a:ln w="0">
            <a:noFill/>
          </a:ln>
        </p:spPr>
      </p:pic>
      <p:pic>
        <p:nvPicPr>
          <p:cNvPr id="59" name="figasm" descr=""/>
          <p:cNvPicPr/>
          <p:nvPr/>
        </p:nvPicPr>
        <p:blipFill>
          <a:blip r:embed="rId2"/>
          <a:stretch/>
        </p:blipFill>
        <p:spPr>
          <a:xfrm>
            <a:off x="533520" y="2089080"/>
            <a:ext cx="403848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6T02:15:54Z</dcterms:created>
  <dc:creator>Dell Coleman</dc:creator>
  <dc:description/>
  <dc:language>en-US</dc:language>
  <cp:lastModifiedBy>Dell Coleman</cp:lastModifiedBy>
  <cp:lastPrinted>2001-10-16T04:29:44Z</cp:lastPrinted>
  <dcterms:modified xsi:type="dcterms:W3CDTF">2001-10-16T05:46:36Z</dcterms:modified>
  <cp:revision>14</cp:revision>
  <dc:subject/>
  <dc:title>Healing Using Electromagnetic Radiation</dc:title>
</cp:coreProperties>
</file>